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breeze.wav" ContentType="audio/x-wav"/>
  <Override PartName="/ppt/media/greatjob.wav" ContentType="audio/x-wav"/>
  <Override PartName="/ppt/media/voltage.wav" ContentType="audio/x-wav"/>
  <Override PartName="/ppt/media/image3.wmf" ContentType="image/x-wmf"/>
  <Override PartName="/ppt/media/image4.png" ContentType="image/png"/>
  <Override PartName="/ppt/media/beep_.wav" ContentType="audio/x-wav"/>
  <Override PartName="/ppt/media/image6.png" ContentType="image/png"/>
  <Override PartName="/ppt/media/image5.png" ContentType="image/png"/>
  <Override PartName="/ppt/media/missed.wav" ContentType="audio/x-wav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4BD-D818-4A51-B0ED-08107F76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80F-01D8-4C6D-9D92-44A2E95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67C-99C2-42A4-9835-4DF0CD5F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D3E-9124-4AE0-B349-2553B459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0E2-B93F-4792-80DF-BF939838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EB7-60B1-45CF-A00F-DB4372E6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0A2-EEFC-4152-B574-D84D566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C64-71A4-4A7A-A68F-0557BAE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755-B925-4E9E-9BE9-5A6D0001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0A3-570A-4131-988E-C36EEF5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A07-A055-4FA5-9155-6E069B44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C97-9FA0-4830-9096-2D8118C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523-3568-4B0B-B2EC-5DD60F0E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" Target=""/><Relationship Id="rId10" Type="http://schemas.openxmlformats.org/officeDocument/2006/relationships/image" Target="../media/image7.png"/><Relationship Id="rId11" Type="http://schemas.openxmlformats.org/officeDocument/2006/relationships/slide" Target="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file:///tmp/home/.config/libreoffice/4/user/gallery/bomb.wav" TargetMode="External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audio" Target="../media/greatjob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audio" Target="../media/greatjob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audio" Target="../media/beep_.wav"/><Relationship Id="rId4" Type="http://schemas.openxmlformats.org/officeDocument/2006/relationships/audio" Target="../media/beep_.wav"/><Relationship Id="rId5" Type="http://schemas.openxmlformats.org/officeDocument/2006/relationships/audio" Target="../media/beep_.wav"/><Relationship Id="rId6" Type="http://schemas.openxmlformats.org/officeDocument/2006/relationships/audio" Target="../media/beep_.wav"/><Relationship Id="rId7" Type="http://schemas.openxmlformats.org/officeDocument/2006/relationships/audio" Target="../media/beep_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audio" Target="../media/missed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image" Target="../media/image7.png"/><Relationship Id="rId9" Type="http://schemas.openxmlformats.org/officeDocument/2006/relationships/slide" Target=""/><Relationship Id="rId10" Type="http://schemas.openxmlformats.org/officeDocument/2006/relationships/image" Target="../media/image7.png"/><Relationship Id="rId11" Type="http://schemas.openxmlformats.org/officeDocument/2006/relationships/hyperlink" Target="file:///tmp/home/.config/libreoffice/4/user/gallery/bomb.wav" TargetMode="External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slide" Target=""/><Relationship Id="rId11" Type="http://schemas.openxmlformats.org/officeDocument/2006/relationships/image" Target="../media/image7.png"/><Relationship Id="rId12" Type="http://schemas.openxmlformats.org/officeDocument/2006/relationships/slide" Target="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" Target="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Decoder v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1219320" y="4800600"/>
            <a:ext cx="6933960" cy="1066680"/>
          </a:xfrm>
          <a:custGeom>
            <a:avLst/>
            <a:gdLst>
              <a:gd name="textAreaLeft" fmla="*/ 69120 w 6933960"/>
              <a:gd name="textAreaRight" fmla="*/ 6864840 w 6933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40371" h="21600">
                <a:moveTo>
                  <a:pt x="0" y="0"/>
                </a:moveTo>
                <a:lnTo>
                  <a:pt x="140371" y="0"/>
                </a:lnTo>
                <a:lnTo>
                  <a:pt x="140371" y="21600"/>
                </a:lnTo>
                <a:lnTo>
                  <a:pt x="0" y="21600"/>
                </a:lnTo>
                <a:close/>
              </a:path>
              <a:path fill="lightenLess" w="140371" h="21600">
                <a:moveTo>
                  <a:pt x="0" y="0"/>
                </a:moveTo>
                <a:lnTo>
                  <a:pt x="140371" y="0"/>
                </a:lnTo>
                <a:lnTo>
                  <a:pt x="138971" y="1400"/>
                </a:lnTo>
                <a:lnTo>
                  <a:pt x="1400" y="1400"/>
                </a:lnTo>
                <a:close/>
              </a:path>
              <a:path fill="darken" w="140371" h="21600">
                <a:moveTo>
                  <a:pt x="140371" y="0"/>
                </a:moveTo>
                <a:lnTo>
                  <a:pt x="140371" y="21600"/>
                </a:lnTo>
                <a:lnTo>
                  <a:pt x="138971" y="20200"/>
                </a:lnTo>
                <a:lnTo>
                  <a:pt x="138971" y="1400"/>
                </a:lnTo>
                <a:close/>
              </a:path>
              <a:path fill="darkenLess" w="140371" h="21600">
                <a:moveTo>
                  <a:pt x="140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71" y="20200"/>
                </a:lnTo>
                <a:close/>
              </a:path>
              <a:path fill="lighten" w="140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Here to Enter the Space Craft and Join a Miss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20968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128"/>
          <p:cNvGrpSpPr/>
          <p:nvPr/>
        </p:nvGrpSpPr>
        <p:grpSpPr>
          <a:xfrm>
            <a:off x="1295280" y="304920"/>
            <a:ext cx="1828800" cy="718920"/>
            <a:chOff x="1295280" y="304920"/>
            <a:chExt cx="1828800" cy="718920"/>
          </a:xfrm>
        </p:grpSpPr>
        <p:pic>
          <p:nvPicPr>
            <p:cNvPr id="694" name="Picture 8" descr="TN00018A"/>
            <p:cNvPicPr/>
            <p:nvPr/>
          </p:nvPicPr>
          <p:blipFill>
            <a:blip r:embed="rId8"/>
            <a:stretch/>
          </p:blipFill>
          <p:spPr>
            <a:xfrm>
              <a:off x="1905120" y="304920"/>
              <a:ext cx="1218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WordArt 9"/>
            <p:cNvSpPr txBox="1"/>
            <p:nvPr/>
          </p:nvSpPr>
          <p:spPr>
            <a:xfrm>
              <a:off x="1295280" y="533520"/>
              <a:ext cx="55728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A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96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701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WordArt 18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4" name="Picture 19" descr="TN00018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705" name="WordArt 20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6" name="Picture 21" descr="TN00018A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707" name="WordArt 22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8" name="Picture 23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712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717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724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731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738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746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750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754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758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762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766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770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774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775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781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785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789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793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804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808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126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(n) ______________________ is more specific than a kingdom, but less specific than a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21" dur="5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28"/>
          <p:cNvGrpSpPr/>
          <p:nvPr/>
        </p:nvGrpSpPr>
        <p:grpSpPr>
          <a:xfrm>
            <a:off x="1295280" y="685800"/>
            <a:ext cx="2514600" cy="719280"/>
            <a:chOff x="1295280" y="685800"/>
            <a:chExt cx="2514600" cy="719280"/>
          </a:xfrm>
        </p:grpSpPr>
        <p:pic>
          <p:nvPicPr>
            <p:cNvPr id="820" name="Picture 9" descr="TN00018A"/>
            <p:cNvPicPr/>
            <p:nvPr/>
          </p:nvPicPr>
          <p:blipFill>
            <a:blip r:embed="rId8"/>
            <a:stretch/>
          </p:blipFill>
          <p:spPr>
            <a:xfrm>
              <a:off x="2590920" y="685800"/>
              <a:ext cx="1218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WordArt 10"/>
            <p:cNvSpPr txBox="1"/>
            <p:nvPr/>
          </p:nvSpPr>
          <p:spPr>
            <a:xfrm>
              <a:off x="1295280" y="838080"/>
              <a:ext cx="11430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ru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22" name="Rectangle 11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2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3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4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15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827" name="AutoShape 16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WordArt 22"/>
          <p:cNvSpPr txBox="1"/>
          <p:nvPr/>
        </p:nvSpPr>
        <p:spPr>
          <a:xfrm>
            <a:off x="4648320" y="1752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l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0" name="Picture 23" descr="TN00018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58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831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834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839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846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853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860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868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872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876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880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884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888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892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896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897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903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907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911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915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926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930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 Box 126"/>
          <p:cNvSpPr/>
          <p:nvPr/>
        </p:nvSpPr>
        <p:spPr>
          <a:xfrm>
            <a:off x="152280" y="3873600"/>
            <a:ext cx="8991720" cy="64260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naeus invented the system that  scientists use to name spec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27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9" descr="TN00018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90920" y="68580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942" name="WordArt 10"/>
          <p:cNvSpPr txBox="1"/>
          <p:nvPr/>
        </p:nvSpPr>
        <p:spPr>
          <a:xfrm>
            <a:off x="1295280" y="8380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u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Rectangle 11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2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3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4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15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948" name="AutoShape 16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17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124"/>
          <p:cNvGrpSpPr/>
          <p:nvPr/>
        </p:nvGrpSpPr>
        <p:grpSpPr>
          <a:xfrm>
            <a:off x="4648320" y="1600200"/>
            <a:ext cx="2666880" cy="719280"/>
            <a:chOff x="4648320" y="1600200"/>
            <a:chExt cx="2666880" cy="719280"/>
          </a:xfrm>
        </p:grpSpPr>
        <p:sp>
          <p:nvSpPr>
            <p:cNvPr id="951" name="WordArt 18"/>
            <p:cNvSpPr txBox="1"/>
            <p:nvPr/>
          </p:nvSpPr>
          <p:spPr>
            <a:xfrm>
              <a:off x="4648320" y="175248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Fals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952" name="Picture 19" descr="TN00018A"/>
            <p:cNvPicPr/>
            <p:nvPr/>
          </p:nvPicPr>
          <p:blipFill>
            <a:blip r:embed="rId10"/>
            <a:stretch/>
          </p:blipFill>
          <p:spPr>
            <a:xfrm>
              <a:off x="6095880" y="1600200"/>
              <a:ext cx="121932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3" name="AutoShape 20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21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956" name="AutoShape 23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24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5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Rectangle 26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27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961" name="Rectangle 28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29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30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1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32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33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34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968" name="Rectangle 35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36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37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8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9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0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1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975" name="Rectangle 42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43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4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5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6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47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48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982" name="Rectangle 49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51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52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53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54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55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56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990" name="Rectangle 57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58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59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60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994" name="Rectangle 61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62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63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64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998" name="Rectangle 65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66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67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68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1002" name="Rectangle 69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70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71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72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1006" name="Rectangle 73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4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75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76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1010" name="Rectangle 77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78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9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80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1014" name="Rectangle 81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82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83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84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1018" name="Group 85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1019" name="Rectangle 86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87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88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89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90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91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1025" name="Rectangle 92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93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94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95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1029" name="Rectangle 96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97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98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99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1033" name="Rectangle 100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Rectangle 101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02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6" name="Group 103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1037" name="Rectangle 104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05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06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Line 107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8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09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110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11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112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3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114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1048" name="Rectangle 115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16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17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118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1052" name="Rectangle 119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20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21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Text Box 122"/>
          <p:cNvSpPr/>
          <p:nvPr/>
        </p:nvSpPr>
        <p:spPr>
          <a:xfrm>
            <a:off x="152280" y="3873600"/>
            <a:ext cx="8991720" cy="5806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is the most specific level in the classification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3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33" dur="5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 Alliance Decoder, we could not have def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liens without your help. The alliance is indebted to you for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and skill.  Thanks once again for you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Tip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42" descr="bd05894_"/>
          <p:cNvPicPr/>
          <p:nvPr/>
        </p:nvPicPr>
        <p:blipFill>
          <a:blip r:embed="rId2"/>
          <a:stretch/>
        </p:blipFill>
        <p:spPr>
          <a:xfrm>
            <a:off x="2898720" y="63360"/>
            <a:ext cx="3349800" cy="3822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3" descr=""/>
          <p:cNvPicPr/>
          <p:nvPr/>
        </p:nvPicPr>
        <p:blipFill>
          <a:blip r:embed="rId3"/>
          <a:stretch/>
        </p:blipFill>
        <p:spPr>
          <a:xfrm>
            <a:off x="7010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422" fill="hold"/>
                                        <p:tgtEl>
                                          <p:spTgt spid="10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2"/>
          <p:cNvSpPr/>
          <p:nvPr/>
        </p:nvSpPr>
        <p:spPr>
          <a:xfrm>
            <a:off x="533520" y="457200"/>
            <a:ext cx="83818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Board Compu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 Flying Speed: 23.4 Ta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8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4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5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rip Navigation Status: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8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9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380880" y="152280"/>
            <a:ext cx="8382240" cy="3733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3" name="breez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0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Board Compu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ly Calculating Incoming Messag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Message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6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Board Compu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ly Calculating Incoming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Tip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6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7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3" descr="bd05894_"/>
          <p:cNvPicPr/>
          <p:nvPr/>
        </p:nvPicPr>
        <p:blipFill>
          <a:blip r:embed="rId2"/>
          <a:stretch/>
        </p:blipFill>
        <p:spPr>
          <a:xfrm>
            <a:off x="2898720" y="63360"/>
            <a:ext cx="334980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2514600" y="5302080"/>
            <a:ext cx="441972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When Ready – Click Next to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6">
            <a:hlinkClick r:id="rId2" action="ppaction://hlinksldjump"/>
          </p:cNvPr>
          <p:cNvSpPr/>
          <p:nvPr/>
        </p:nvSpPr>
        <p:spPr>
          <a:xfrm>
            <a:off x="7086600" y="5257800"/>
            <a:ext cx="1828800" cy="457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7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8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9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304920" y="304920"/>
            <a:ext cx="8686800" cy="33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lcome Alliance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so grateful that you have agreed to help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you have heard, aliens have stolen our space ship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re attempting to escape i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t been able to stop them because we can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m from the ships controlled by our fo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know that you can help us identify the ships, and allow us to recaptur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your display panel, you will see clues from our central intelligence ag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us identify the ships by clicking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know with you on the job we will be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, and good l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533520" y="5959440"/>
            <a:ext cx="8458200" cy="6426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ange Scanners Indicate - Aircraft Appr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Switching to Targeting Controls - Engaging Enem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218" name="AutoShape 18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9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23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223" name="AutoShape 26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7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9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0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228" name="Rectangle 31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2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3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5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6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7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235" name="Rectangle 38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9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0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1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42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3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4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242" name="Rectangle 45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6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7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8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49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0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1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249" name="Rectangle 52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3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5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6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7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58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1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257" name="Rectangle 72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3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4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5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261" name="Rectangle 76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7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8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79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265" name="Rectangle 80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81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2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83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269" name="Rectangle 84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85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86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87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274" name="Rectangle 89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0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92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93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94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280" name="Rectangle 95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96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97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8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284" name="Rectangle 99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00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01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02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288" name="Rectangle 103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04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05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110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1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2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3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4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5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7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299" name="Rectangle 118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9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0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21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303" name="Rectangle 122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23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24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25"/>
          <p:cNvSpPr/>
          <p:nvPr/>
        </p:nvSpPr>
        <p:spPr>
          <a:xfrm>
            <a:off x="152280" y="3873600"/>
            <a:ext cx="8991720" cy="17398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OW YOU CAN DO IT, PLEASE CONCENTRATE AND TRY IT AG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ENDING YOU BACK 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E TRY AGAIN BUTTON TO CONTI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26"/>
          <p:cNvSpPr txBox="1"/>
          <p:nvPr/>
        </p:nvSpPr>
        <p:spPr>
          <a:xfrm>
            <a:off x="2362320" y="685800"/>
            <a:ext cx="44672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anners Indicate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ou Missed that One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Rectangle 127">
            <a:hlinkClick r:id="" action="ppaction://hlinkshowjump?jump=previousslide"/>
          </p:cNvPr>
          <p:cNvSpPr/>
          <p:nvPr/>
        </p:nvSpPr>
        <p:spPr>
          <a:xfrm>
            <a:off x="4648320" y="5943600"/>
            <a:ext cx="14475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9" name="missed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9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TN00018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316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5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6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49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322" name="AutoShape 18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2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WordArt 10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Picture 48" descr="TN00018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174"/>
          <p:cNvGrpSpPr/>
          <p:nvPr/>
        </p:nvGrpSpPr>
        <p:grpSpPr>
          <a:xfrm>
            <a:off x="5791320" y="1523880"/>
            <a:ext cx="1904760" cy="719280"/>
            <a:chOff x="5791320" y="1523880"/>
            <a:chExt cx="1904760" cy="719280"/>
          </a:xfrm>
        </p:grpSpPr>
        <p:sp>
          <p:nvSpPr>
            <p:cNvPr id="327" name="WordArt 12"/>
            <p:cNvSpPr txBox="1"/>
            <p:nvPr/>
          </p:nvSpPr>
          <p:spPr>
            <a:xfrm>
              <a:off x="5791320" y="1752480"/>
              <a:ext cx="55692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328" name="Picture 49" descr="TN00018A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477120" y="1523880"/>
              <a:ext cx="12189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WordArt 11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0" name="Picture 50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52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3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5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334" name="AutoShape 54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5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56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106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6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339" name="Rectangle 57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5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9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0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1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2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07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346" name="Rectangle 63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4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5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6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7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8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87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353" name="Rectangle 69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82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71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72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73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4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5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360" name="Rectangle 75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7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8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1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9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0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04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9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368" name="Rectangle 88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9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0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10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372" name="Rectangle 92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93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94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1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376" name="Rectangle 95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96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97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1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380" name="Rectangle 98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9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00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13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384" name="Rectangle 101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2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3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22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388" name="Rectangle 123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24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5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26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392" name="Rectangle 127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8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9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70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396" name="Group 16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397" name="Rectangle 154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50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51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2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53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14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403" name="Rectangle 115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116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17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30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407" name="Rectangle 131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32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133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34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411" name="Rectangle 135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36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37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38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415" name="Rectangle 139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40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41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ine 145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6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47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48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8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0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61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426" name="Rectangle 162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3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64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65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430" name="Rectangle 166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67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68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1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group of species with similar tra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Binomial nomencl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1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03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TN00018A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442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448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WordArt 17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1" name="Picture 18" descr="TN00018A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452" name="WordArt 20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3" name="Picture 21" descr="TN00018A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30"/>
          <p:cNvGrpSpPr/>
          <p:nvPr/>
        </p:nvGrpSpPr>
        <p:grpSpPr>
          <a:xfrm>
            <a:off x="5791320" y="380880"/>
            <a:ext cx="1904760" cy="719280"/>
            <a:chOff x="5791320" y="380880"/>
            <a:chExt cx="1904760" cy="719280"/>
          </a:xfrm>
        </p:grpSpPr>
        <p:sp>
          <p:nvSpPr>
            <p:cNvPr id="455" name="WordArt 22"/>
            <p:cNvSpPr txBox="1"/>
            <p:nvPr/>
          </p:nvSpPr>
          <p:spPr>
            <a:xfrm>
              <a:off x="5791320" y="609480"/>
              <a:ext cx="55692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56" name="Picture 23" descr="TN00018A"/>
            <p:cNvPicPr/>
            <p:nvPr/>
          </p:nvPicPr>
          <p:blipFill>
            <a:blip r:embed="rId14"/>
            <a:stretch/>
          </p:blipFill>
          <p:spPr>
            <a:xfrm>
              <a:off x="6477120" y="380880"/>
              <a:ext cx="12189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460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465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472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479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486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494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498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502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506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510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514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518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522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523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529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533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537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541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552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556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26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system for naming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Linna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Binomial nomencl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09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TN00018A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568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574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9"/>
          <p:cNvGrpSpPr/>
          <p:nvPr/>
        </p:nvGrpSpPr>
        <p:grpSpPr>
          <a:xfrm>
            <a:off x="1119240" y="1600200"/>
            <a:ext cx="1852560" cy="719280"/>
            <a:chOff x="1119240" y="1600200"/>
            <a:chExt cx="1852560" cy="719280"/>
          </a:xfrm>
        </p:grpSpPr>
        <p:sp>
          <p:nvSpPr>
            <p:cNvPr id="577" name="WordArt 17"/>
            <p:cNvSpPr txBox="1"/>
            <p:nvPr/>
          </p:nvSpPr>
          <p:spPr>
            <a:xfrm>
              <a:off x="1119240" y="1828800"/>
              <a:ext cx="55728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578" name="Picture 18" descr="TN00018A"/>
            <p:cNvPicPr/>
            <p:nvPr/>
          </p:nvPicPr>
          <p:blipFill>
            <a:blip r:embed="rId10"/>
            <a:stretch/>
          </p:blipFill>
          <p:spPr>
            <a:xfrm>
              <a:off x="1752480" y="1600200"/>
              <a:ext cx="121932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WordArt 19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" name="Picture 20" descr="TN00018A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581" name="WordArt 22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" name="Picture 23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583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586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591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598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605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612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620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624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628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632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636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640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644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648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649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655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659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663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667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678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682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26"/>
          <p:cNvSpPr/>
          <p:nvPr/>
        </p:nvSpPr>
        <p:spPr>
          <a:xfrm>
            <a:off x="152280" y="3873600"/>
            <a:ext cx="8991720" cy="155412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chotomous key is a set of questions that helps scientists find the scientific name of a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15" dur="5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0:23:03Z</dcterms:created>
  <dc:creator>GX270image</dc:creator>
  <dc:description/>
  <dc:language>en-US</dc:language>
  <cp:lastModifiedBy>ddwyer</cp:lastModifiedBy>
  <dcterms:modified xsi:type="dcterms:W3CDTF">2010-01-12T12:59:49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asVP">
    <vt:r8>1</vt:r8>
  </property>
</Properties>
</file>